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2AA67-6A38-4C47-B574-6194F9FDA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E89DE-4C8D-4435-A354-8B8CA4AD4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588D4-1C65-4852-9443-B2E02AAC4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22FA8-FF8B-4001-A0D0-0CA23D467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CC390-C6D3-4305-B406-22562EA45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8445C-7777-4E57-9172-583FE4AFB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F91B6-318C-4936-BB55-424EF746A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6307C-7821-4668-BFE8-5655D3431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3E778-5D88-4CFC-A248-48D580AA5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6F0F4-E1D6-4FA6-B695-48D9CE320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386A2-9F16-4C9A-B374-7148D4D08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1634C-5B8C-4105-93BC-5C9A03118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8CADC-8785-4750-924E-C51B6B7844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5607" t="11721" r="23366" b="22659"/>
          <a:stretch/>
        </p:blipFill>
        <p:spPr>
          <a:xfrm>
            <a:off x="228600" y="228600"/>
            <a:ext cx="86868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rcRect l="14330" t="25003" r="19625" b="14065"/>
          <a:stretch/>
        </p:blipFill>
        <p:spPr>
          <a:xfrm>
            <a:off x="533520" y="380880"/>
            <a:ext cx="807696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4T15:02:24Z</dcterms:created>
  <dc:creator>Valeria.Palladino</dc:creator>
  <dc:description/>
  <dc:language>en-US</dc:language>
  <cp:lastModifiedBy>Home</cp:lastModifiedBy>
  <dcterms:modified xsi:type="dcterms:W3CDTF">2010-02-06T18:45:26Z</dcterms:modified>
  <cp:revision>1</cp:revision>
  <dc:subject/>
  <dc:title>Slide 1</dc:title>
</cp:coreProperties>
</file>